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D5D-BC22-4A1B-8170-8E3AFFFF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5A5-3F2D-4FFB-A616-055BD80A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ED3-FF37-4DB9-95BD-5FD8E22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CFC-5321-4C07-8674-7DFEBD41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94D-62AD-46A9-82C9-1B49C35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834-46C1-44DB-8450-EB8F8542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B5C-6620-4E5B-8EC1-8A195ECF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665-C546-47A8-BB39-3517B0A1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EA1-2AA4-4A08-B17B-41FFF96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3F6-E251-4A8A-B172-2343B028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D35-DD5D-426E-B6D9-5C76077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4DB-1D39-40C2-AD40-5252F30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B10-82F4-4959-9B14-52C57F569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3000" y="0"/>
            <a:ext cx="61722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IAGRAMME C-K Groupe BLEU (suite aux 48h) parti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3860640" y="539640"/>
            <a:ext cx="318168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ranspi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2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ran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oussin d’a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oids du sa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Hélium, ballon de baudruc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allot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e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ous v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einture en mous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im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crat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hausset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eauté du pay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ppareil pho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lunet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iné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v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dessin animé, écr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rêve, plaisir, fantai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ris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jeu vidé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moti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Hologram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ordinateur/logici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Liv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alle de s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élast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ommunication, convivial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Talkie walk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lanche nei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miroir (électroniq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6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ttirance anato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necteur droit 93"/>
          <p:cNvSpPr/>
          <p:nvPr/>
        </p:nvSpPr>
        <p:spPr>
          <a:xfrm>
            <a:off x="3283920" y="611280"/>
            <a:ext cx="73080" cy="835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à coins arrondis 129"/>
          <p:cNvSpPr/>
          <p:nvPr/>
        </p:nvSpPr>
        <p:spPr>
          <a:xfrm rot="19915200">
            <a:off x="847800" y="5378400"/>
            <a:ext cx="588960" cy="230508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2305080"/>
              <a:gd name="textAreaBottom" fmla="*/ 2276640 h 2305080"/>
            </a:gdLst>
            <a:ahLst/>
            <a:rect l="textAreaLeft" t="textAreaTop" r="textAreaRight" b="textAreaBottom"/>
            <a:pathLst>
              <a:path w="21600" h="84500">
                <a:moveTo>
                  <a:pt x="3600" y="0"/>
                </a:moveTo>
                <a:arcTo wR="3600" hR="3600" stAng="16200000" swAng="-5400000"/>
                <a:lnTo>
                  <a:pt x="0" y="80900"/>
                </a:lnTo>
                <a:arcTo wR="3600" hR="3600" stAng="10800000" swAng="-5400000"/>
                <a:lnTo>
                  <a:pt x="18000" y="84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à coins arrondis 132"/>
          <p:cNvSpPr/>
          <p:nvPr/>
        </p:nvSpPr>
        <p:spPr>
          <a:xfrm rot="13280400">
            <a:off x="1197000" y="7308360"/>
            <a:ext cx="1224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413000" y="684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413000" y="1187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à coins arrondis 132"/>
          <p:cNvSpPr/>
          <p:nvPr/>
        </p:nvSpPr>
        <p:spPr>
          <a:xfrm rot="14733000">
            <a:off x="1052280" y="5003640"/>
            <a:ext cx="136872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132"/>
          <p:cNvSpPr/>
          <p:nvPr/>
        </p:nvSpPr>
        <p:spPr>
          <a:xfrm rot="19489200">
            <a:off x="549360" y="4858920"/>
            <a:ext cx="1366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à coins arrondis 132"/>
          <p:cNvSpPr/>
          <p:nvPr/>
        </p:nvSpPr>
        <p:spPr>
          <a:xfrm rot="15325200">
            <a:off x="1323720" y="2959920"/>
            <a:ext cx="1096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à coins arrondis 132"/>
          <p:cNvSpPr/>
          <p:nvPr/>
        </p:nvSpPr>
        <p:spPr>
          <a:xfrm rot="16200000">
            <a:off x="1188000" y="1872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à coins arrondis 132"/>
          <p:cNvSpPr/>
          <p:nvPr/>
        </p:nvSpPr>
        <p:spPr>
          <a:xfrm rot="16200000">
            <a:off x="1188360" y="86400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à coins arrondis 129"/>
          <p:cNvSpPr/>
          <p:nvPr/>
        </p:nvSpPr>
        <p:spPr>
          <a:xfrm rot="18449400">
            <a:off x="921600" y="4055400"/>
            <a:ext cx="588960" cy="133344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440"/>
              <a:gd name="textAreaBottom" fmla="*/ 1305000 h 1333440"/>
            </a:gdLst>
            <a:ahLst/>
            <a:rect l="textAreaLeft" t="textAreaTop" r="textAreaRight" b="textAreaBottom"/>
            <a:pathLst>
              <a:path w="21600" h="48887">
                <a:moveTo>
                  <a:pt x="3600" y="0"/>
                </a:moveTo>
                <a:arcTo wR="3600" hR="3600" stAng="16200000" swAng="-5400000"/>
                <a:lnTo>
                  <a:pt x="0" y="45287"/>
                </a:lnTo>
                <a:arcTo wR="3600" hR="3600" stAng="10800000" swAng="-5400000"/>
                <a:lnTo>
                  <a:pt x="18000" y="48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à coins arrondis 129"/>
          <p:cNvSpPr/>
          <p:nvPr/>
        </p:nvSpPr>
        <p:spPr>
          <a:xfrm rot="1806600">
            <a:off x="909360" y="3564000"/>
            <a:ext cx="588960" cy="133344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440"/>
              <a:gd name="textAreaBottom" fmla="*/ 1305000 h 1333440"/>
            </a:gdLst>
            <a:ahLst/>
            <a:rect l="textAreaLeft" t="textAreaTop" r="textAreaRight" b="textAreaBottom"/>
            <a:pathLst>
              <a:path w="21600" h="48887">
                <a:moveTo>
                  <a:pt x="3600" y="0"/>
                </a:moveTo>
                <a:arcTo wR="3600" hR="3600" stAng="16200000" swAng="-5400000"/>
                <a:lnTo>
                  <a:pt x="0" y="45287"/>
                </a:lnTo>
                <a:arcTo wR="3600" hR="3600" stAng="10800000" swAng="-5400000"/>
                <a:lnTo>
                  <a:pt x="18000" y="48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à coins arrondis 129"/>
          <p:cNvSpPr/>
          <p:nvPr/>
        </p:nvSpPr>
        <p:spPr>
          <a:xfrm rot="2899200">
            <a:off x="1784520" y="2140920"/>
            <a:ext cx="503280" cy="11905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1190520"/>
              <a:gd name="textAreaBottom" fmla="*/ 1166040 h 1190520"/>
            </a:gdLst>
            <a:ahLst/>
            <a:rect l="textAreaLeft" t="textAreaTop" r="textAreaRight" b="textAreaBottom"/>
            <a:pathLst>
              <a:path w="21600" h="51074">
                <a:moveTo>
                  <a:pt x="3600" y="0"/>
                </a:moveTo>
                <a:arcTo wR="3600" hR="3600" stAng="16200000" swAng="-5400000"/>
                <a:lnTo>
                  <a:pt x="0" y="47474"/>
                </a:lnTo>
                <a:arcTo wR="3600" hR="3600" stAng="10800000" swAng="-5400000"/>
                <a:lnTo>
                  <a:pt x="18000" y="51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à coins arrondis 129"/>
          <p:cNvSpPr/>
          <p:nvPr/>
        </p:nvSpPr>
        <p:spPr>
          <a:xfrm>
            <a:off x="2089080" y="2268360"/>
            <a:ext cx="503280" cy="122400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1224000"/>
              <a:gd name="textAreaBottom" fmla="*/ 1199520 h 1224000"/>
            </a:gdLst>
            <a:ahLst/>
            <a:rect l="textAreaLeft" t="textAreaTop" r="textAreaRight" b="textAreaBottom"/>
            <a:pathLst>
              <a:path w="21600" h="52510">
                <a:moveTo>
                  <a:pt x="3600" y="0"/>
                </a:moveTo>
                <a:arcTo wR="3600" hR="3600" stAng="16200000" swAng="-5400000"/>
                <a:lnTo>
                  <a:pt x="0" y="48910"/>
                </a:lnTo>
                <a:arcTo wR="3600" hR="3600" stAng="10800000" swAng="-5400000"/>
                <a:lnTo>
                  <a:pt x="18000" y="52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à coins arrondis 129"/>
          <p:cNvSpPr/>
          <p:nvPr/>
        </p:nvSpPr>
        <p:spPr>
          <a:xfrm>
            <a:off x="1297080" y="1189080"/>
            <a:ext cx="588960" cy="10080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008000"/>
              <a:gd name="textAreaBottom" fmla="*/ 979560 h 1008000"/>
            </a:gdLst>
            <a:ahLst/>
            <a:rect l="textAreaLeft" t="textAreaTop" r="textAreaRight" b="textAreaBottom"/>
            <a:pathLst>
              <a:path w="21600" h="36959">
                <a:moveTo>
                  <a:pt x="3600" y="0"/>
                </a:moveTo>
                <a:arcTo wR="3600" hR="3600" stAng="16200000" swAng="-5400000"/>
                <a:lnTo>
                  <a:pt x="0" y="33359"/>
                </a:lnTo>
                <a:arcTo wR="3600" hR="3600" stAng="10800000" swAng="-5400000"/>
                <a:lnTo>
                  <a:pt x="18000" y="36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341360" y="1692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21240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49360" y="2340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336600"/>
            <a:ext cx="1800360" cy="2963880"/>
          </a:xfrm>
          <a:custGeom>
            <a:avLst/>
            <a:gdLst/>
            <a:ahLst/>
            <a:rect l="l" t="t" r="r" b="b"/>
            <a:pathLst>
              <a:path w="1134" h="1867">
                <a:moveTo>
                  <a:pt x="45" y="1625"/>
                </a:moveTo>
                <a:cubicBezTo>
                  <a:pt x="90" y="1383"/>
                  <a:pt x="416" y="438"/>
                  <a:pt x="590" y="219"/>
                </a:cubicBezTo>
                <a:cubicBezTo>
                  <a:pt x="764" y="0"/>
                  <a:pt x="1044" y="272"/>
                  <a:pt x="1089" y="310"/>
                </a:cubicBezTo>
                <a:cubicBezTo>
                  <a:pt x="1134" y="348"/>
                  <a:pt x="953" y="416"/>
                  <a:pt x="862" y="446"/>
                </a:cubicBezTo>
                <a:cubicBezTo>
                  <a:pt x="771" y="476"/>
                  <a:pt x="635" y="287"/>
                  <a:pt x="544" y="491"/>
                </a:cubicBezTo>
                <a:cubicBezTo>
                  <a:pt x="453" y="695"/>
                  <a:pt x="401" y="1482"/>
                  <a:pt x="318" y="1671"/>
                </a:cubicBezTo>
                <a:cubicBezTo>
                  <a:pt x="235" y="1860"/>
                  <a:pt x="0" y="1867"/>
                  <a:pt x="45" y="1625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197000" y="7308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340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134800" y="3059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558440" y="2700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701720" y="33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628640" y="900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140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557360" y="190800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6640" y="900000"/>
            <a:ext cx="6494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17720" y="2268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349360" y="2556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917720" y="2556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844640" y="2916360"/>
            <a:ext cx="73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844640" y="684360"/>
            <a:ext cx="2016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44640" y="826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44640" y="971640"/>
            <a:ext cx="20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844640" y="1332000"/>
            <a:ext cx="20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844640" y="1403280"/>
            <a:ext cx="20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73360" y="971640"/>
            <a:ext cx="2087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773360" y="1835280"/>
            <a:ext cx="20872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73360" y="1907640"/>
            <a:ext cx="2087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2268360"/>
            <a:ext cx="19429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94080" y="971640"/>
            <a:ext cx="13665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65360" y="190800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65360" y="2484000"/>
            <a:ext cx="1295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09360" y="971640"/>
            <a:ext cx="2879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980640" y="2484360"/>
            <a:ext cx="2879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94080" y="971640"/>
            <a:ext cx="13665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565360" y="3131640"/>
            <a:ext cx="129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3720" y="3348000"/>
            <a:ext cx="180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844640" y="900000"/>
            <a:ext cx="20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981000" y="3851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65000" y="4356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268280" y="4788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20640" y="5148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73360" y="5508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49360" y="56516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20640" y="8101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486080" y="84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1341360" y="7236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844640" y="7667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341360" y="6227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89000" y="6588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52280" y="4067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125360" y="45720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80640" y="5003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628640" y="500364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909720" y="586728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765000" y="5867280"/>
            <a:ext cx="716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052640" y="8244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701720" y="745164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773360" y="6443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5867280"/>
            <a:ext cx="7207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12640" y="3635280"/>
            <a:ext cx="24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13000" y="3850920"/>
            <a:ext cx="24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413000" y="3995640"/>
            <a:ext cx="24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96640" y="4356000"/>
            <a:ext cx="2592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00720"/>
            <a:ext cx="26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4500720"/>
            <a:ext cx="26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701720" y="3924360"/>
            <a:ext cx="2158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701720" y="4642920"/>
            <a:ext cx="215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701720" y="4932360"/>
            <a:ext cx="21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701360" y="4859280"/>
            <a:ext cx="2158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52640" y="4140000"/>
            <a:ext cx="28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52640" y="5148000"/>
            <a:ext cx="28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52640" y="5292720"/>
            <a:ext cx="28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4640" y="5651280"/>
            <a:ext cx="165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204640" y="5651280"/>
            <a:ext cx="165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276640" y="5651280"/>
            <a:ext cx="1584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981000" y="5796000"/>
            <a:ext cx="2879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980640" y="5724000"/>
            <a:ext cx="2879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980640" y="5724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773360" y="6372000"/>
            <a:ext cx="20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420640" y="6732720"/>
            <a:ext cx="143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421000" y="6804000"/>
            <a:ext cx="143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052640" y="82440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52640" y="8028000"/>
            <a:ext cx="28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44640" y="853272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701720" y="6227640"/>
            <a:ext cx="35892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60640" y="755640"/>
            <a:ext cx="1800000" cy="54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76640" y="7524720"/>
            <a:ext cx="158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76640" y="781200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73360" y="7380000"/>
            <a:ext cx="20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1773360" y="7451640"/>
            <a:ext cx="20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à coins arrondis 129"/>
          <p:cNvSpPr/>
          <p:nvPr/>
        </p:nvSpPr>
        <p:spPr>
          <a:xfrm rot="18426600">
            <a:off x="849960" y="5293440"/>
            <a:ext cx="588960" cy="16290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629000"/>
              <a:gd name="textAreaBottom" fmla="*/ 1600560 h 1629000"/>
            </a:gdLst>
            <a:ahLst/>
            <a:rect l="textAreaLeft" t="textAreaTop" r="textAreaRight" b="textAreaBottom"/>
            <a:pathLst>
              <a:path w="21600" h="59720">
                <a:moveTo>
                  <a:pt x="3600" y="0"/>
                </a:moveTo>
                <a:arcTo wR="3600" hR="3600" stAng="16200000" swAng="-5400000"/>
                <a:lnTo>
                  <a:pt x="0" y="56120"/>
                </a:lnTo>
                <a:arcTo wR="3600" hR="3600" stAng="10800000" swAng="-5400000"/>
                <a:lnTo>
                  <a:pt x="18000" y="59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à coins arrondis 129"/>
          <p:cNvSpPr/>
          <p:nvPr/>
        </p:nvSpPr>
        <p:spPr>
          <a:xfrm rot="17632800">
            <a:off x="916560" y="7733160"/>
            <a:ext cx="598320" cy="1333440"/>
          </a:xfrm>
          <a:custGeom>
            <a:avLst/>
            <a:gdLst>
              <a:gd name="textAreaLeft" fmla="*/ 29160 w 598320"/>
              <a:gd name="textAreaRight" fmla="*/ 569160 w 598320"/>
              <a:gd name="textAreaTop" fmla="*/ 29160 h 1333440"/>
              <a:gd name="textAreaBottom" fmla="*/ 1304280 h 1333440"/>
            </a:gdLst>
            <a:ahLst/>
            <a:rect l="textAreaLeft" t="textAreaTop" r="textAreaRight" b="textAreaBottom"/>
            <a:pathLst>
              <a:path w="21600" h="48123">
                <a:moveTo>
                  <a:pt x="3600" y="0"/>
                </a:moveTo>
                <a:arcTo wR="3600" hR="3600" stAng="16200000" swAng="-5400000"/>
                <a:lnTo>
                  <a:pt x="0" y="44523"/>
                </a:lnTo>
                <a:arcTo wR="3600" hR="3600" stAng="10800000" swAng="-5400000"/>
                <a:lnTo>
                  <a:pt x="18000" y="48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à coins arrondis 129"/>
          <p:cNvSpPr/>
          <p:nvPr/>
        </p:nvSpPr>
        <p:spPr>
          <a:xfrm>
            <a:off x="549360" y="5580000"/>
            <a:ext cx="588960" cy="295272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2952720"/>
              <a:gd name="textAreaBottom" fmla="*/ 2924280 h 2952720"/>
            </a:gdLst>
            <a:ahLst/>
            <a:rect l="textAreaLeft" t="textAreaTop" r="textAreaRight" b="textAreaBottom"/>
            <a:pathLst>
              <a:path w="21600" h="108238">
                <a:moveTo>
                  <a:pt x="3600" y="0"/>
                </a:moveTo>
                <a:arcTo wR="3600" hR="3600" stAng="16200000" swAng="-5400000"/>
                <a:lnTo>
                  <a:pt x="0" y="104638"/>
                </a:lnTo>
                <a:arcTo wR="3600" hR="3600" stAng="10800000" swAng="-5400000"/>
                <a:lnTo>
                  <a:pt x="18000" y="10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à coins arrondis 129"/>
          <p:cNvSpPr/>
          <p:nvPr/>
        </p:nvSpPr>
        <p:spPr>
          <a:xfrm rot="17783400">
            <a:off x="1640520" y="5928480"/>
            <a:ext cx="588960" cy="13338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800"/>
              <a:gd name="textAreaBottom" fmla="*/ 1305360 h 1333800"/>
            </a:gdLst>
            <a:ahLst/>
            <a:rect l="textAreaLeft" t="textAreaTop" r="textAreaRight" b="textAreaBottom"/>
            <a:pathLst>
              <a:path w="21600" h="48900">
                <a:moveTo>
                  <a:pt x="3600" y="0"/>
                </a:moveTo>
                <a:arcTo wR="3600" hR="3600" stAng="16200000" swAng="-5400000"/>
                <a:lnTo>
                  <a:pt x="0" y="45300"/>
                </a:lnTo>
                <a:arcTo wR="3600" hR="3600" stAng="10800000" swAng="-5400000"/>
                <a:lnTo>
                  <a:pt x="18000" y="48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0:12:20Z</dcterms:created>
  <dc:creator>miyah971</dc:creator>
  <dc:description/>
  <dc:language>en-US</dc:language>
  <cp:lastModifiedBy>Alain Nussbaumer</cp:lastModifiedBy>
  <dcterms:modified xsi:type="dcterms:W3CDTF">2009-12-17T23:23:53Z</dcterms:modified>
  <cp:revision>37</cp:revision>
  <dc:subject/>
  <dc:title>Diapositive 1</dc:title>
</cp:coreProperties>
</file>